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7739-0A90-4E17-9513-809826751A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for ex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for ex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How important is (?) role in these two extr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ow how and why (?) behaviour changes in these two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How important is (?) role in these two extr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ow how and why (?) behaviour changes in these two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(quote given) explore the significance of this statement in relation to thes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(quote given) explore the significance of this statement in relation to thes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omparing your two extracts explain how the issue of (?) is expl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omparing your two extracts explain how the issue of (?) is expl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kle that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kle that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469A-3833-4177-96E8-CC662153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B8C-99C5-4321-B5CF-F5D21658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E189-74E2-4A60-B569-B37F59B9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D0FF-FC0C-4FBE-A8AA-4B33F5D3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2CB5-D845-4DA4-AA3B-84866855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BE84-934E-479B-9A99-F48B7706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064C-18A5-4166-BF5E-37B48C35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6FE4-0705-4A67-A721-10457E27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AB1E-9949-4849-9F4C-D1B48C0E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83B3-E48B-496E-9925-05DF7526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7302-44E5-4500-A874-49DB754A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594-C8A5-40DB-8A87-5F6B0F6B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1EBC-ACC5-44C4-9508-48176854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8E06-BD0A-45BC-BB89-618F95F6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C936-07A3-46D7-A580-ADE06DD1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298A-AEBE-4698-B8C6-C63DEFC9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784E-99B7-4D25-9AF0-5D85A868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213-91E8-4A65-B89B-8771B93E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9A3-E222-481B-9B1B-6DFC3132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7BD-0348-46E6-8021-2A6E14A4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6F7-3807-418F-BCF3-0DDC23BC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E0E-98E0-4D07-B84D-5AA802C8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771-96F5-4976-B129-BDD44131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2835-702B-427F-B407-C5EEC4C0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4483-F20F-4A69-8982-C0AAEC9C86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24BF-657A-46ED-B16B-3AE4686896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vidence (quot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Focuses for exam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Character and motivation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E.g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important is (?) role in the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extra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E.g. Sh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how and why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(?) behavi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in these two ex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he performance of the pla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The language of the text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E.g. (quote given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explore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significance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 of this statement in relation to the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two extracts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deas, themes and issu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E.g.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Comparing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your two extracts explain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how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the issue of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(?)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is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explo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330033"/>
                </a:solidFill>
                <a:latin typeface="Times New Roman"/>
              </a:rPr>
              <a:t>Tackle that question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vidence (quot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50Z</dcterms:modified>
  <cp:revision>10</cp:revision>
  <dc:subject/>
  <dc:title>SATs</dc:title>
</cp:coreProperties>
</file>